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0D96-BE71-4B05-9852-02C244E3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9C0-8D99-41B2-B1C8-95BF01D6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E437-F913-414C-859D-C79EE0E8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6A6-73F4-4C87-B679-6E5C8DF8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CE25-81A4-4A3A-BAA1-C2C07CE3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ED75-5041-4BA1-92CF-495A62A2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8546-DD2E-4263-85FC-941C425B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C87A-83FF-4EFB-BE0F-E14D19E7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7656-1C74-4D32-9602-D2BF85B5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27F3-82CD-41B7-8A4D-62E9BF11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EA4A-0332-4848-B9C4-52731B22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AAC-4561-44B0-A38E-3F50640D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451E-29A2-4BD5-A4B3-0ED18837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A34C-E32D-48D1-A5E8-DA6B1732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6246-5DA5-43EF-8E88-B79D7290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0824-8931-4196-9718-5451B9ED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E89E-799B-42A0-91FF-4EC03F22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2C1-11E8-434D-893F-F38FA51B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E95-A9D3-4FF7-8271-8B6C8868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79F-231B-4B0E-9551-B61F9FA2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F82-8A1D-4892-AC19-8395274C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3476-1BC2-47E5-8A53-EDCE1166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9F1-7863-4E9F-A19D-A0C96CE1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8E7-4C76-42F2-ADBB-DF5B96CE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79FE-35FD-4A95-B67D-15084B34274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833F-04DE-4CED-BB37-F789D6FFB85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English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cabulary Workbo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brary for new AR bo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ople who serve on Jurys dont always face equal dutys some jurys decide cases in minutes but others take d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larious:Amusement::error: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lieve:Credible::______:inqui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swer K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ople who serve on juries don’t always face equal duties; some juries decide cases in minutes, but others take d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ocabul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 Workbooks-Unit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05:12Z</dcterms:created>
  <dc:creator>student</dc:creator>
  <dc:description/>
  <dc:language>en-US</dc:language>
  <cp:lastModifiedBy>student</cp:lastModifiedBy>
  <dcterms:modified xsi:type="dcterms:W3CDTF">2010-09-20T17:18:06Z</dcterms:modified>
  <cp:revision>2</cp:revision>
  <dc:subject/>
  <dc:title>English</dc:title>
</cp:coreProperties>
</file>